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c7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5795ABD-65EE-4F67-A617-37AD09B6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A7D8451-4E75-4C6D-9E9F-FEB1A890E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2CB9-8C52-4696-98C5-D02A27EE9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D0D6-D8FF-4D45-8D8E-EEC26FDF9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2365-84F4-4A18-AA5F-7BC1E4EC1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284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990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928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F68D-D755-4F4C-87A7-295714E70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70102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C854-EEC4-4025-BA0F-DBD186292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284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1990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928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1823-F3D7-4D3C-B581-9E66A7B3D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6B4E-2E81-4593-B2FC-B3F0F76BE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31D8-0AE9-4272-9361-EA38EA0C2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70102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4144-CBE1-4827-B777-12BCBE3E2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7E4F-3B8D-4D8B-9C7D-5D58E974A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6767-CB89-4680-ACF6-98BC34E6F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B344-9000-429D-A709-F33F3FEF8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c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04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1526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9828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1736-8E53-471C-A219-9708ED8C4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36" descr="rgb-vaaka-logo"/>
          <p:cNvPicPr/>
          <p:nvPr/>
        </p:nvPicPr>
        <p:blipFill>
          <a:blip r:embed="rId2"/>
          <a:stretch/>
        </p:blipFill>
        <p:spPr>
          <a:xfrm>
            <a:off x="352440" y="477720"/>
            <a:ext cx="72396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4" descr="xkansi_tk_kayttaytymis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c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04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1526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9828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098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WP3 Knowledge Brokerage on Digital Skills and Digital Games: first thoughts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320" y="3568320"/>
            <a:ext cx="66294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Liisa Ilomäki &amp; Minna Lakk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chnology in Education Research Group (Tedu)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niversity of Helsink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logo_smaller"/>
          <p:cNvPicPr/>
          <p:nvPr/>
        </p:nvPicPr>
        <p:blipFill>
          <a:blip r:embed="rId1"/>
          <a:stretch/>
        </p:blipFill>
        <p:spPr>
          <a:xfrm>
            <a:off x="6357960" y="285840"/>
            <a:ext cx="2214720" cy="53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IST Logo"/>
          <p:cNvPicPr/>
          <p:nvPr/>
        </p:nvPicPr>
        <p:blipFill>
          <a:blip r:embed="rId2"/>
          <a:stretch/>
        </p:blipFill>
        <p:spPr>
          <a:xfrm>
            <a:off x="7429680" y="928800"/>
            <a:ext cx="1239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UH expertise for WP3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evious work in Ernist for which UH was responsible for creating answers to authentic questions based on scientific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xpertise in school – technology – practitiones – policy making  -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mpirical research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xperiences in co-ordinating and organising EU-leve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3E9F-B317-4DC8-9E64-E84C1B9F76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A simplified description about the process of creating evindence-based answers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define the topics for the project (digital skills (or competencies?), digital g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ask from typical users what they would like to know about the topics, based on empir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elaborate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make empirical ”reviews”: search, evaluate the findings, write short / long ans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publish th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CCD-D46A-4D1F-AEAB-7002979EDD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Open issues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efining the target group: to whom we submit the answers? Policy-makers on what level? Educators? Advanced staff – new comers? National differences?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tners need to find relevant persons who should ask questions – various groups, am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nguage: English as an option – should national languages be us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ivision of work between partners in W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 road map for the work to b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599"/>
              </a:lnSpc>
              <a:spcBef>
                <a:spcPts val="224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uestions from the preliminary users before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599"/>
              </a:lnSpc>
              <a:spcBef>
                <a:spcPts val="224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swers ready till the end of Septe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8C60-76A3-4D63-BB55-4F2B315C3C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560" y="357120"/>
            <a:ext cx="75531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A possible structure, based on experiences in ERNIST</a:t>
            </a:r>
            <a:br>
              <a:rPr sz="2400"/>
            </a:b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74CB-2167-4764-A3D8-47FBACE4D6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7162920" y="712944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C2F-2D00-459B-B00F-5C38568BE2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7"/>
          <p:cNvSpPr/>
          <p:nvPr/>
        </p:nvSpPr>
        <p:spPr>
          <a:xfrm>
            <a:off x="0" y="5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500040" y="785880"/>
            <a:ext cx="7572240" cy="6357960"/>
            <a:chOff x="500040" y="785880"/>
            <a:chExt cx="7572240" cy="6357960"/>
          </a:xfrm>
        </p:grpSpPr>
        <p:sp>
          <p:nvSpPr>
            <p:cNvPr id="104" name="AutoShape 36"/>
            <p:cNvSpPr/>
            <p:nvPr/>
          </p:nvSpPr>
          <p:spPr>
            <a:xfrm>
              <a:off x="500040" y="785880"/>
              <a:ext cx="7286760" cy="63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5"/>
            <p:cNvSpPr/>
            <p:nvPr/>
          </p:nvSpPr>
          <p:spPr>
            <a:xfrm>
              <a:off x="3392640" y="4545000"/>
              <a:ext cx="1801080" cy="609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search based evidence for policy ma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34"/>
            <p:cNvSpPr/>
            <p:nvPr/>
          </p:nvSpPr>
          <p:spPr>
            <a:xfrm>
              <a:off x="1928880" y="2714400"/>
              <a:ext cx="1400040" cy="487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is evidenc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33"/>
            <p:cNvSpPr/>
            <p:nvPr/>
          </p:nvSpPr>
          <p:spPr>
            <a:xfrm>
              <a:off x="5929560" y="2143080"/>
              <a:ext cx="2142720" cy="274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users nee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32"/>
            <p:cNvSpPr/>
            <p:nvPr/>
          </p:nvSpPr>
          <p:spPr>
            <a:xfrm>
              <a:off x="500040" y="1285200"/>
              <a:ext cx="1890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inist Paper 1: Reliable evidence for policy making in complex sit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31"/>
            <p:cNvSpPr/>
            <p:nvPr/>
          </p:nvSpPr>
          <p:spPr>
            <a:xfrm>
              <a:off x="3500280" y="3714480"/>
              <a:ext cx="1928520" cy="700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of developing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per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or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6001200" y="2428560"/>
              <a:ext cx="192852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 task: User need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practitioners ask about ICT in edu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5929560" y="3714480"/>
              <a:ext cx="16678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nist Paper 6: The organisation of the review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714240" y="3357360"/>
              <a:ext cx="15346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kinds of studies?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per 2: Evidence-based policy advice for policy ma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048560" y="4244040"/>
              <a:ext cx="720" cy="2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3286080" y="3143160"/>
              <a:ext cx="28584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2500560" y="1071000"/>
              <a:ext cx="1643040" cy="13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nist Paper 5 Existing web sites with reviews of ICT in education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 flipH="1">
              <a:off x="5357880" y="3214440"/>
              <a:ext cx="71424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643040" y="3071880"/>
              <a:ext cx="28584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2101680" y="2327040"/>
              <a:ext cx="3333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H="1">
              <a:off x="5326920" y="39204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1791000" y="5703120"/>
              <a:ext cx="1468080" cy="426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ccesful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4341960" y="5683680"/>
              <a:ext cx="1200600" cy="426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ool portra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>
              <a:off x="3268800" y="5793120"/>
              <a:ext cx="10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3859560" y="2820240"/>
              <a:ext cx="1533960" cy="700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 with  policy m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1723680" y="4487040"/>
              <a:ext cx="15354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 of 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2325240" y="4660560"/>
              <a:ext cx="0" cy="98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4643280" y="5214960"/>
              <a:ext cx="19944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4357800" y="928080"/>
              <a:ext cx="2214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per 4: Evidence and Policy: a collaborative exploration of the needs of policy-oriented us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4286160" y="3500280"/>
              <a:ext cx="352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H="1">
              <a:off x="2325240" y="3357360"/>
              <a:ext cx="31680" cy="11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>
              <a:off x="6795360" y="2730240"/>
              <a:ext cx="36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"/>
            <p:cNvSpPr/>
            <p:nvPr/>
          </p:nvSpPr>
          <p:spPr>
            <a:xfrm>
              <a:off x="3572280" y="2214360"/>
              <a:ext cx="50004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"/>
            <p:cNvSpPr/>
            <p:nvPr/>
          </p:nvSpPr>
          <p:spPr>
            <a:xfrm flipH="1">
              <a:off x="4786200" y="1928880"/>
              <a:ext cx="21420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09:52:38Z</dcterms:created>
  <dc:creator>Caroline Kearney</dc:creator>
  <dc:description/>
  <dc:language>en-US</dc:language>
  <cp:lastModifiedBy>Administrator</cp:lastModifiedBy>
  <cp:lastPrinted>2003-08-18T12:35:25Z</cp:lastPrinted>
  <dcterms:modified xsi:type="dcterms:W3CDTF">2010-03-16T19:05:24Z</dcterms:modified>
  <cp:revision>217</cp:revision>
  <dc:subject/>
  <dc:title>Ei dian otsikkoa</dc:title>
</cp:coreProperties>
</file>